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1608-FC76-4D83-B402-CA952EB40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5801-C918-4440-AA76-C691DCBAC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1D83-FA7A-4F8A-8C73-671CC38C9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2022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2022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42022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20527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20527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2022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42022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42022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2052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25200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2022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42022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2022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>
            <a:lum bright="-44000"/>
          </a:blip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2052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17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1749"/>
              </a:spcBef>
              <a:buClr>
                <a:srgbClr val="eaec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34600" indent="-159120">
              <a:spcBef>
                <a:spcPts val="1749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60120" indent="-159120">
              <a:spcBef>
                <a:spcPts val="1749"/>
              </a:spcBef>
              <a:buClr>
                <a:srgbClr val="eaec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60120" indent="-159120"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60120" indent="-159120"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8051040" y="656748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96840" y="163440"/>
          <a:ext cx="8880480" cy="654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63440"/>
                    <a:ext cx="88804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9"/>
          <p:cNvSpPr/>
          <p:nvPr/>
        </p:nvSpPr>
        <p:spPr>
          <a:xfrm>
            <a:off x="8051040" y="659448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89000" y="919080"/>
          <a:ext cx="8691480" cy="5597640"/>
        </p:xfrm>
        <a:graphic>
          <a:graphicData uri="http://schemas.openxmlformats.org/drawingml/2006/table">
            <a:tbl>
              <a:tblPr/>
              <a:tblGrid>
                <a:gridCol w="2332080"/>
                <a:gridCol w="4779720"/>
                <a:gridCol w="1579680"/>
              </a:tblGrid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&amp; TECHNOLOGY SKILLS INSTRU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ADVOCAC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MANAGEMENT &amp; SERVIC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32"/>
          <p:cNvSpPr/>
          <p:nvPr/>
        </p:nvSpPr>
        <p:spPr>
          <a:xfrm>
            <a:off x="9360" y="69840"/>
            <a:ext cx="91346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8051040" y="656748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08080" y="1452600"/>
          <a:ext cx="8742240" cy="4449600"/>
        </p:xfrm>
        <a:graphic>
          <a:graphicData uri="http://schemas.openxmlformats.org/drawingml/2006/table">
            <a:tbl>
              <a:tblPr/>
              <a:tblGrid>
                <a:gridCol w="1998720"/>
                <a:gridCol w="1712880"/>
                <a:gridCol w="2327040"/>
                <a:gridCol w="2703600"/>
              </a:tblGrid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-Cente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-Cente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&amp; TECHNOLOGY SKILLS INSTRU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 essential information &amp; technology skills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, manage, and coach the information &amp; technology skills instructional program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ADVOCAC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ADVOC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reading guidance and promotion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, manage, and coach the reading guidance and promotion program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MANAGEMENT &amp; SERVIC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MANAGER (CIO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information &amp; technology services, systems, resources, and facilities—physical and virtual, 24/7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, manage, and coach information &amp; technology services, systems, resources, and virtual and physical, 24/7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5"/>
          <p:cNvSpPr/>
          <p:nvPr/>
        </p:nvSpPr>
        <p:spPr>
          <a:xfrm>
            <a:off x="928800" y="17928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filling the 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8010000" y="645624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1288800"/>
            <a:ext cx="716256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race the bran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mission statement and functions you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Library Information &amp; Technology Program Advisory Committe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realistic (but ambitious) approaches to instruction and servic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rogram priorities for the rest of this year. Begin to work on next yea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ion technolog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le…and have fu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454040" y="3459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 Check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8051040" y="656748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9T16:51:49Z</dcterms:created>
  <dc:creator>Mike Eisenberg</dc:creator>
  <dc:description/>
  <dc:language>en-US</dc:language>
  <cp:lastModifiedBy>Michael Eisenberg</cp:lastModifiedBy>
  <cp:lastPrinted>1999-04-06T21:41:17Z</cp:lastPrinted>
  <dcterms:modified xsi:type="dcterms:W3CDTF">2010-03-02T00:47:18Z</dcterms:modified>
  <cp:revision>439</cp:revision>
  <dc:subject/>
  <dc:title>TL Whole Enchilada - Management</dc:title>
</cp:coreProperties>
</file>